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0CAB-3467-44A2-B16A-D39285D22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DD63-7D61-432F-898E-A9ED4570C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 Calculate the electric potential energy stored in a hydrogen at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q = 1.60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r = 5.29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6183-FF1D-41B3-B555-3429C0A53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.  354 #1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D37C0-110A-4421-8EE1-D0D84708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E984C-D262-41C3-B225-5C81F33F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E2B3D-821E-42A4-A2B9-A6F2C468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8071D-2377-461C-A6D3-9185161A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9E28-6595-4D78-9594-0FF63EC8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254D-6ADF-4854-9494-A2CEA8B2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8E2B-3D06-4773-B481-B1E7B84E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7F54-1212-4698-B2D9-F51816B5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92CC-2817-43E7-BC69-E7F7A874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BB8C-1690-49D4-B942-2E644E77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1AC6-B097-4C24-8F7A-524F87AE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26F49-1877-45C3-84C6-EDC0E126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A5CF-160C-4D45-9568-040C0850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F26B-EF40-4043-9630-259BCBA3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8379-220D-4506-AEF3-8CD9139A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2A61-735D-4107-9BE3-7AF9AA50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402C-067C-4E9C-9315-29E11BF7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F07C4-41B7-4459-AE83-90DE6B9A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E18D8-16D7-4B4F-8152-55BCED65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42D71-E7C7-4713-86F3-DDB17A68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2393F-C367-4C9D-A117-9DEBA339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38AE5-1356-44E5-9169-47EBF177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50B51-BFA4-40CE-83FD-2B8A800E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BD796-7151-4377-B7B3-0BDD0DF7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92E1-72D5-454B-B050-E51989A651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E353-80FD-49FB-BE53-F21329C3A0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lectric Potentia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907640" y="4266720"/>
            <a:ext cx="7083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422760" cy="4343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1763640" y="5084640"/>
            <a:ext cx="59040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 Potenti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3357360"/>
            <a:ext cx="51116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ic potential energy stored in a system with two charges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eparated by a distance r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6084720" y="3716280"/>
                <a:ext cx="237672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684360" y="5300640"/>
            <a:ext cx="50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q2 &lt; 0 charges are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q2 &gt; 0 charges are un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095640" cy="15462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539640" y="206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done is the change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tential ener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charge in an electric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 Pot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potential energ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 unit char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referr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ic potenti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ten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potential (V) a distance r away from a charge q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e in electric potential between two points is the electric potential differe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(also know as the volt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3492360" y="2924280"/>
                <a:ext cx="180036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q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3348000" y="5300640"/>
            <a:ext cx="194472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arallel pl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lectric field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onst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2195640" y="2924280"/>
                <a:ext cx="46098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E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6156360" y="3933720"/>
                <a:ext cx="213372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8:41:54Z</dcterms:created>
  <dc:creator>Chanh &amp; Nhat</dc:creator>
  <dc:description/>
  <dc:language>en-US</dc:language>
  <cp:lastModifiedBy>Katie</cp:lastModifiedBy>
  <dcterms:modified xsi:type="dcterms:W3CDTF">2014-07-11T15:34:16Z</dcterms:modified>
  <cp:revision>12</cp:revision>
  <dc:subject/>
  <dc:title>Electric Potential</dc:title>
</cp:coreProperties>
</file>